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CC3EF-46DF-4224-B3D7-F696136B1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0BD-195D-4E08-B9C1-0ED92325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32B-61F2-4A47-BD8A-097A34D5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D39-566F-439A-9065-AC72FA1B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434-D888-4759-AFD8-A94CB7B1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F8F-C9AC-4C3F-8869-79A4B0F0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7F7-3438-421D-94C9-6B39A3FC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4DC-4FAB-4DCA-84AD-B2B948F9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C43-724D-446E-B600-21F430B4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499-5F58-4EB0-9924-304E8BE4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1D9-4BBE-4B7F-968F-10B3EE0B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281-D3EE-4552-BECD-21881A52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40C-4851-4A61-8704-3F226B34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6AFF0-7D5F-4D45-9A13-82158FAD1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54480" y="1473120"/>
            <a:ext cx="697788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Our God, He Is Al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59320" y="270036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6880" y="5978520"/>
            <a:ext cx="181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6920" y="1417680"/>
            <a:ext cx="7413480" cy="57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s, beyond the azure bl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God concealed from human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tinted skies with heav’nly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framed the world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 great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s a God, He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im we live, and we surv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dust our God creat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our God, the great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the great I 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1800" y="1874880"/>
            <a:ext cx="809496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was, a long, long time a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God whose voice the prophet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the God that we should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o speaks from His inspired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s a God, He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im we live, and we surv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dust our God creat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our God, the great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the great I 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44200" y="2027160"/>
            <a:ext cx="815580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ure is life from mortal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d holds the germ within His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o’ men may search, they cannot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God alone doe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s a God, He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im we live, and we surv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dust our God creat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our God, the great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the great I 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44280" y="1874880"/>
            <a:ext cx="766800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ur God, whose Son upon a tr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 life was willing there to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 He from sin might set men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evermore with Him could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re is a God, He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n him we live, and we surv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rom dust our God creat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 is our God, the great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(the great I 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30480" y="5608800"/>
            <a:ext cx="75438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WORDS: A. W. Dicus, 19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MUSIC: A. W. Dicus, 19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© 1996 A. W. Dicus. Assigned to Sacred Selections, © 197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All rights reserved. Used by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eila Jones</cp:lastModifiedBy>
  <dcterms:modified xsi:type="dcterms:W3CDTF">2006-06-11T23:42:15Z</dcterms:modified>
  <cp:revision>6</cp:revision>
  <dc:subject/>
  <dc:title>Slide 1</dc:title>
</cp:coreProperties>
</file>